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5.jpeg" ContentType="image/jpeg"/>
  <Override PartName="/ppt/media/image4.jpeg" ContentType="image/jpeg"/>
  <Override PartName="/ppt/media/image34.jpeg" ContentType="image/jpeg"/>
  <Override PartName="/ppt/media/image35.jpeg" ContentType="image/jpeg"/>
  <Override PartName="/ppt/media/image8.jpeg" ContentType="image/jpeg"/>
  <Override PartName="/ppt/media/image10.jpeg" ContentType="image/jpeg"/>
  <Override PartName="/ppt/media/image39.png" ContentType="image/pn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šinski materijali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233FC5-F1DD-461E-A390-B2CC74AB7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FAA04E-D463-4531-8D0B-610F542B603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218F5A-57DE-4DB3-B7F7-418ABEA3261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5523CD-96E7-4634-B002-2553D4BDEE0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7BD2FA-20D7-46DA-A4E8-ABA58B20EAA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376C8B-AAB5-47DF-BD9F-40B784EC939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0601A0-7310-42E2-BA1D-56116CB80D4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F23D97-4A5C-4136-A2DA-33689D44667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B580EC-65FA-4A96-9122-57649609251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8A4A61-17FE-49BF-B722-EDE8F323808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B7679B-D594-4E96-99ED-193DA3ACF9A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2DECBF-42BA-42C8-BF3D-665E2CD36BD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1849E4-794F-4E26-8E5A-AC2AB58BDC2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24FAC8-CBD3-4151-AC62-DDD817C84F8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B552EB-485A-4E40-8014-643DBBBE62E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00BC72-DFE5-4AFD-AE7D-14510C999E3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668077-016E-4ABD-BA9D-643857F9158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5C8A72-E670-4C52-9F0A-93DAF08C3FB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1B9578-2789-4605-BE47-712D6930E65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A5967D-C591-4463-8917-338FE1985D6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A2F361-C881-4CEE-A9A0-CFB0ADDC1E9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625DF6-3573-42C1-9BF6-B688A3F5E31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8C6CD7-D536-447F-8EB5-86BC94E0ADB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51FF1C-23A9-4DA8-B32B-8B2CFB86DC2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DB89C0-860D-44DD-A608-08C87C59A10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6FDF0F-A534-490A-8E68-BA5A89AE0B1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1DAFEC-EFDA-4076-85C2-BB7F7DD4644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6C9E63-1696-4498-9322-2AB0CD3F200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DC3C156-54BA-4610-9385-650094C31B6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8EA445-A072-4169-BB76-3C0399E5544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425215-7D05-4605-A48C-1C84B100625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1D040D-4085-489C-810B-921CD7EC600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17B352-1C69-4E75-A627-E342CEB35DE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5C6916-436B-4477-8E31-954721BD9A4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EDF921-BAE3-4C75-864C-0FAB5B48901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B73A68-226A-4983-8343-5C7EFF9D240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DBE56A-2DE1-432F-A770-AA3148DFEA1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3718F8-EA48-4B5D-8D5C-894A3F46241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F419D1-11A5-4461-8E28-FA9EF697CDB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509EE5-B3E4-4EB3-BA47-6DFC0E69A42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C69B68-6CE5-4508-B6A8-CC23087621D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274EEA-0551-47C4-BD20-8738D4A36C3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A75AD10-3550-4ED6-8A6B-D44070E9A6A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8DBB3B-C7FE-42C4-BD6F-2BBDCF2B370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001B08-90A6-455C-96EC-FE61EAE61D5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74DFC0-39DD-441F-B4F4-9C9B9992CFF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E279C1-5B98-46FD-B7A3-5757D9F52BE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46E1FE-345F-410F-9876-739E3E9C137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6AB960-F586-46FD-9844-7B79E3B0DD2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139A67-E5A1-436B-8424-F0BC06E8B33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B97911-89BC-4661-BC0C-82E7797DF10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BF5821-70D1-4DD4-A501-E2166054B27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1E834B3-8CB8-41B6-B4E9-845910CE629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C94958-1046-4041-AC01-4EBAE16CF99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B0559C-4886-45F3-80E3-4AAF382BF62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C37241-174A-45C7-9F8C-1F697ED5FEC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BC214D-BE71-4A77-9DCD-CB10C0B40C8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03C7-CF22-4321-A79A-08C09D77D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503BA-EC1E-4D03-BDDD-806922238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D105B-AC1E-43D9-8201-8726C87D8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07444-91DA-4774-9369-D63250895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4C5A2-1A73-4004-9A41-6B87E01C19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70F49-C242-426D-A428-BB0205BA0F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6C6B3-57F7-4F76-9DF0-3173DAC41D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41E2C-5A03-40E0-904E-FF46BA00F1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AFE9A-0FFB-4DAC-99D1-F5D4FD73C4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5344E-F9E2-49A7-8CED-5A02710818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22D80-4608-4A6D-BE7C-941E8EE280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3903-B89D-4F4A-8645-765058DE6E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DB49C-2052-49FA-B7FC-AF25AAC261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45E2B-F8D0-49A7-BB68-3737A5536D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48BF4-94FB-4798-848D-F97365F363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AB162-598F-423F-9ACD-84F80AF7F5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E56BB-EB3F-4E5D-83E3-E72CAEA83F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17C042-05FF-4DB4-8839-968BD252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ABF91E-813C-4556-8909-1705D160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50A079-8EC3-46AE-A0B7-ED725CFB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E34B2A-A21F-4A9A-BD10-5CDE1D91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A6AD65-62CC-4855-B74D-122D58FF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2B9B1-55B6-4CE1-86BF-F71334DE10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775F74-A206-4489-B730-9A002599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F18172-DCEA-4FB5-A250-DC236FF0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C6E525-6F64-4795-9E23-5C463FE5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CDCF52-858E-41F9-8262-2D68E501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656A3F-AD24-4AC5-9DEA-FC9C1276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58A012-897A-4B56-94BB-54032DFA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973870-F14A-4852-895A-DE2344E3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2E0090-F54D-49DE-825C-50C0212E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63D4C7-1CB7-4FC0-9EC3-CFD549ED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5B27AC-3177-40FF-B9C0-28761DCD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4DC8C-AF90-49AE-835C-E886B0C7E7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0BD09E-15F8-4990-BBBA-1DF7BF48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29125E-176B-4C72-99C7-DBE5E17C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C48E05-E28F-4F18-ACD6-8B3660A3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036CA1-A2E4-4263-AB35-29A7BC22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ACC277-F8E7-401C-B2D9-C299AD04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1778B1-B6B6-4B2B-A8E1-843186FD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55D8AA-97FF-42CD-A188-DC1FA3C3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B25AB9-9A93-4B2B-90EC-76B88A4F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36E483-9F06-4503-9436-80558DD4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13A3-A82D-4EAF-8044-462D8C172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4D8B-BD39-4F57-A1E4-A4A0B9C0E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31CC1-5041-43AA-B571-F89F6DE05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C402F-E7A5-4939-92A6-AD1E6EDB2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EA44-1ACF-4B27-B0B8-75F53FAE3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20080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C301-9551-47CB-9059-30997EF63CF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54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6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57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3"/>
          </p:nvPr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4"/>
          </p:nvPr>
        </p:nvSpPr>
        <p:spPr>
          <a:xfrm>
            <a:off x="820080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2FDD-5C52-40F7-BA7F-375F0CFCBE9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07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08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0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3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14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EB2C-D011-4065-98ED-53435554F83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2A71-1288-47AB-859B-811ABCCC130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62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63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65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8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69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C639-C1FD-4105-9CE1-AF6C08F0BE1F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C368-1B01-47BE-8B61-0D837C6D270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0D0E-175F-4510-BAD4-FCD6F720C48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08000" y="549360"/>
            <a:ext cx="4248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Инфективн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Маларија/Malar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11" descr="eigencyclus"/>
          <p:cNvPicPr/>
          <p:nvPr/>
        </p:nvPicPr>
        <p:blipFill>
          <a:blip r:embed="rId1"/>
          <a:stretch/>
        </p:blipFill>
        <p:spPr>
          <a:xfrm>
            <a:off x="4356000" y="333360"/>
            <a:ext cx="46926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111E-62D8-4883-AE5C-2C4E040E766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387440" y="764280"/>
            <a:ext cx="276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68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пидем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900000" y="1916280"/>
            <a:ext cx="8244000" cy="49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о је најважнија паразитоза људ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распрострањена у 103 земљ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од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које годишње оболева око милијарду људи, а умире више од 2 милион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рбиј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нема аутохтоних случајева маларије (последњи случај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964. годин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Југославиј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), али се јављају импортовани случајев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За настанак и одржавање маларије неопходна су три фактора: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аразит, преносилац и чове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ред тога, неопходни су и други фактори: атмосферски, климатски,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еренски, 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аларија је најраспрострањенија у тропским и суптропским крајевима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где има ендемско-епидемијски карактер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BE87-0FAA-4675-94CB-59027443FA2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6" descr="malaria_risk_2003"/>
          <p:cNvPicPr/>
          <p:nvPr/>
        </p:nvPicPr>
        <p:blipFill>
          <a:blip r:embed="rId1"/>
          <a:stretch/>
        </p:blipFill>
        <p:spPr>
          <a:xfrm>
            <a:off x="539640" y="1125360"/>
            <a:ext cx="8280360" cy="51120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858240" y="404640"/>
            <a:ext cx="41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Географска дистрибуција малар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F733-E028-4C82-A4A0-A21E1B39C63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Picture 8" descr="picendem"/>
          <p:cNvPicPr/>
          <p:nvPr/>
        </p:nvPicPr>
        <p:blipFill>
          <a:blip r:embed="rId1"/>
          <a:stretch/>
        </p:blipFill>
        <p:spPr>
          <a:xfrm>
            <a:off x="2916360" y="907920"/>
            <a:ext cx="520992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197C-1632-4E76-BF74-D73DBCD306D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1403280" y="764280"/>
            <a:ext cx="22287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Патогенез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971640" y="1844640"/>
            <a:ext cx="8064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атогенеза болести поклапа се са асексуалним циклусом развоја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аразита у чове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Основни патогенетски механизм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Хемолиза еритроцит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оксично оштећење различитих ткив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слобађање цитокина (TNF-</a:t>
            </a:r>
            <a:r>
              <a:rPr b="0" lang="sr-Latn-C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 INF-</a:t>
            </a:r>
            <a:r>
              <a:rPr b="0" lang="sr-Latn-CS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 ...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итоадхеренција и феномен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“розета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кроваскуларне (капиларне) оклузије у различитим органи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248E-F88F-4E00-A5BA-A67EC83146A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332000" y="549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692360" y="2060640"/>
            <a:ext cx="60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Инкубација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10-12 дана (8-23 да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210000"/>
              </a:lnSpc>
              <a:buClr>
                <a:srgbClr val="ffff00"/>
              </a:buClr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Стадијум примарних маларичних напа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210000"/>
              </a:lnSpc>
              <a:buClr>
                <a:srgbClr val="ffff00"/>
              </a:buClr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Стадијум латен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210000"/>
              </a:lnSpc>
              <a:buClr>
                <a:srgbClr val="ffff00"/>
              </a:buClr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Стадијум рециди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1721-3D76-49DB-9BB1-5CA32302594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258920" y="47628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I СТАДИЈУМ ПРИМАРНИХ МАЛАРИЧНИХ НАПА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900000" y="981000"/>
            <a:ext cx="8244000" cy="58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нвазивни стадијум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 температура до 40ºC, главобоља, малаксалост, болови у мишићима, 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аларични напади пролазе кроз три стадијума: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стадијум дрхтавице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стадијум хиперпирексије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стадијум презнојавања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ларичн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напади трају 5-10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т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маларије терцијане и овале маларични напади се понављају сваких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48 часова, код маларије квартане на свака 72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т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код маларије тропик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ваких 24-48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т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нелечене маларије терцијане и овале маларични напади се понављај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оком 2-4 недеље, код маларије квартане током 1-2 месеца, а зати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понтано престај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а сваким новим ма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ричним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нападом анемија прогредира, слезина се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ве виш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већава, болесници се све више исцрпљуј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985E-D5A5-43A1-8B51-9B4F4B58329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900000" y="620640"/>
            <a:ext cx="82440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У клиничко-лабораторијске знаке тешке маларије убрајају с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Висока паразитемија (&gt;5% инфицираних еритроцит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Хиперпирексија (телесна температура &gt; 40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Знаци афекције нервног система (“церебрална маларија”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немија (хематокрит &lt; 20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ремећај гликорегулације (хипогликемија &lt; 2,2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mol/l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Спонтана крварењ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цидоза (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&lt; 7,25; бикарбонати &lt; 15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mol/l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убрежна инсуфицијенција (креатинин &gt; 265 </a:t>
            </a:r>
            <a:r>
              <a:rPr b="0" i="1" lang="sr-Latn-C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ol/l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иуреза &lt; 400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l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Хипербилирубинемија (билирубин &gt; 50 </a:t>
            </a:r>
            <a:r>
              <a:rPr b="0" i="1" lang="sr-Latn-C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ol/l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ардиоваскуларни колапс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нфекције плућа и/или плућни еде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ролив и/или повраћање (што отежава оралну примену леков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1F1B-769C-4510-9C03-156716C8969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548360" y="83664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II ПЕРИОД ЛАТЕН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971640" y="2060640"/>
            <a:ext cx="8172360" cy="46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лечених болесника настаје услед уништења еритроцитне фазе у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азвоју паразита, а код нелечених због развоја делимичног имунитет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 овом периоду нема субјективних тегоба, у објективном налазу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оминира спленомегал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ериод латенције код маларије тропике је кратак (1-6 недеља), док код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. терцијане и м. овале може да траје више недеља до више месец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10AF-7C35-4AC7-A7FB-509D9B6338B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1551240" y="83664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III СТАДИЈУМ РЕЦИДИ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900000" y="1916280"/>
            <a:ext cx="813600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цидиви могу бити рани и касн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ани рецидиви могу да се јав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свих облика маларије; касни рецидиви, такође код свих осим м. тропик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цидиви се клинички презентују типичним маларичним нападима, који с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ериодично понављају у одре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ном временском интервалу; једина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азлика је што временом маларични напади у рецидиву постају блажи, а период између појединих рецидива све већ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м. терцијане, м. квартане и м. овале рецидиви настају због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гзоеритроцитне фазе у развоју паразита, а код м. тропике због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одржавања еритроцитне фаз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D037-CBB9-43B6-93BF-B3C994E1F4A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299960" y="765000"/>
            <a:ext cx="41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К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омпликације малариј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403280" y="2133720"/>
            <a:ext cx="482436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уптура слезине или торз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бачај или превремени порођај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Црномокраћна грозниц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EB2D-DD34-40D0-9918-8C860EE7F82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042920" y="1989000"/>
            <a:ext cx="763272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Људски род 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има три велика непријатеља: грозницу, глад и рат; убедљиво највећа, убедљиво најстрашнија од њих је грозница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William Os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6F52-28F8-434E-87EA-A5EB5931FAD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403280" y="692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1403280" y="2133720"/>
            <a:ext cx="69850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ичк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слик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пидемиолошки подац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Лаборатор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јске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анализ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брзана S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ормоцитна, нормохромна анем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ормалан број леукоцита (ретко леукоцитоз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ромбоцитопен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ако повишена активност трансамин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79F9-21CE-4D4B-981E-91DB3C70A74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187280" y="836640"/>
            <a:ext cx="7201080" cy="49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Егзактна дијагноза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ентификациј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плазмодијума у крви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размаз или густа кап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Детекција паразитног антигена (флуоресцентна микроскопиј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еролошке анализ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C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6" name="Picture 5" descr="malaria82"/>
          <p:cNvPicPr/>
          <p:nvPr/>
        </p:nvPicPr>
        <p:blipFill>
          <a:blip r:embed="rId1"/>
          <a:stretch/>
        </p:blipFill>
        <p:spPr>
          <a:xfrm>
            <a:off x="6156360" y="1341360"/>
            <a:ext cx="216072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3308-BC19-4586-A158-9424ECE57BA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193400" y="33336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826920" y="1484280"/>
            <a:ext cx="777744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Основни циљ лечења је прекид акутног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аларичног напада и превенција рециди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анас располажемо великим бројем антималаричних средстава која делују на различите развојне облике плазмодију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84360" y="3573360"/>
          <a:ext cx="8137440" cy="2857680"/>
        </p:xfrm>
        <a:graphic>
          <a:graphicData uri="http://schemas.openxmlformats.org/drawingml/2006/table">
            <a:tbl>
              <a:tblPr/>
              <a:tblGrid>
                <a:gridCol w="2735280"/>
                <a:gridCol w="54021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нолонски дерив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in, kinidin, hlorokin, meflokin, halofantrin, primak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темизински дерив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emizinin, artemetar, artesun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тифол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rimetamin, proguanil, hlorproguanil, trimetopr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тибактеријски лек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traciklini, klindamicin, makrolidi, sulfonamid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восинтетисани нафтакинонски лек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ovak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301" name="Picture 99" descr="vol5-38p1-303-00"/>
          <p:cNvPicPr/>
          <p:nvPr/>
        </p:nvPicPr>
        <p:blipFill>
          <a:blip r:embed="rId1"/>
          <a:stretch/>
        </p:blipFill>
        <p:spPr>
          <a:xfrm>
            <a:off x="6300720" y="476280"/>
            <a:ext cx="264312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066320" y="8571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Хемиопрофилакса малар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Антималаричну профилаксу треба узимати 2 недеље пре одласка, за време боравка и 4 недеље по повратку из ендемичних краје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ЗОНА А (ендемска подручја у којима су плазмодијуми осетлљиви на хлороки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CHLOROQUIN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, таблете 300 mg, једна тбл.недељно, деца: 5 mg/кg телесне мас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Контраиндикације: преосетљивост на хлорокин, епилепсија, псориј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4CFF-1C63-484B-AFA8-442B714E90F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ЗОНА Б (ендемска подручја у којима постоји резистенција плазмодијума на хлорокин)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Calibri"/>
              </a:rPr>
              <a:t>CHLOROQUINE + PROGUANI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, 100 mg 200 m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Једна комбинована таблета днев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Контраиндикације: преосетљивост на хлорокин и/или п</a:t>
            </a:r>
            <a:r>
              <a:rPr b="0" lang="sr-RS" sz="1800" spc="-1" strike="noStrike">
                <a:solidFill>
                  <a:srgbClr val="ffffff"/>
                </a:solidFill>
                <a:latin typeface="Tahoma"/>
                <a:ea typeface="Calibri"/>
              </a:rPr>
              <a:t>рогуан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л, инсуфиијенција јетре и бубрега, епилепсија, псориј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Величина таблете није адекватна за особе са телесном тежином мањом од 50 к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Узимати 1 дан пре одласка, све време боравка и 4 недеље након повратка из маларичног подручј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ЗОНА Ц (ендемска подручја у којима постоји висока резистенција plаzmоdiјum fаlcipаrumа на хлороки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Calibri"/>
              </a:rPr>
              <a:t>MEFLOQUINE (Lariam)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таблете од 250 mg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јеdnа tаblеtа nеdеljn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Деца: 5 mg/кg телесне масе недељ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4FB2-9BEF-462B-8531-C35890BD8A4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66320" y="713880"/>
            <a:ext cx="7543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Контраиндикације: тел.тежина испод 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g, </a:t>
            </a: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трудноћа, преосетљивост на мефлокин, неуропсихијатријски поремећаји (укључујући депресију), епилепсија, конвулзије, терапија мефлокином у претходне 4 недеље, не препоручује се особама чије занимање захтева фину координацију покрета и просторну оријентацију (пилоти, возачи...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Напомена: не узимати мефлокин унутар 12 сати од примене кинина и унутар 3 дана од апликације живих бактеријских вакцина (вакцина против трбушног тифуса и колер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Ампицилин и тетрациклин, уколико се примењују истовремено, могу повећати ниво мефлокина у крв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90E3-E2AE-45B8-94E1-C1192926F22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5A45-75BD-43BC-A364-100CC6EEEB8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066680" y="857160"/>
            <a:ext cx="752472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Calibri"/>
              </a:rPr>
              <a:t>ATOVAQUONE + PROGUANIL (Malaron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), 250 mg 100 mg, једна</a:t>
            </a:r>
            <a:r>
              <a:rPr b="0" lang="sr-RS" sz="1800" spc="-1" strike="noStrike">
                <a:solidFill>
                  <a:srgbClr val="ffffff"/>
                </a:solidFill>
                <a:latin typeface="Tahoma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комбинована таблета днев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Контраиндикације: осетљивост на састојке лека, тешка бубрежна инсифицијенција, телесна тежина мања од 11 к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Истовремена употреба рифампицина, рифабутина, метоклопрамида и тетрациклина, доводи до смањења концентрације маларона у плаз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Узимати 1 дан пре поласка, све време боравка и 7 дана након повратка из маларичног подручј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1066320" y="928440"/>
            <a:ext cx="75438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Calibri"/>
              </a:rPr>
              <a:t>DOXYCYCLI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, таблете од 100 mg, једна таблета днев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Контраиндикације: трудноћа и дојење, млађи од 8 година, преосетљивост на тетрациклине, дисфункција јет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Напомена: доксициклин повећава осетљивост коже на сунчеву светлост, па особе са осетљивом кожом треба да користе УВА заштиту и избегавају директно излагање сунчевој светл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Узимати 1 дан пре одласка, све време боравка и 4 недеље по повратку из маларичног подручј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Calibri"/>
              </a:rPr>
              <a:t>У случају да нисте у могућности да набавите препоручене лекове, као и за све друге информације везане за врсту и начин употребе антималаричних лекова, обратите се здравственој служби земље у којој се налазит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FDFD-7694-45F6-B51A-AF776AC5264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E6C2-30CB-442D-9C7A-CB79B31B038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3" name="Picture 5" descr="MalariaMap"/>
          <p:cNvPicPr/>
          <p:nvPr/>
        </p:nvPicPr>
        <p:blipFill>
          <a:blip r:embed="rId1"/>
          <a:stretch/>
        </p:blipFill>
        <p:spPr>
          <a:xfrm>
            <a:off x="1187280" y="765000"/>
            <a:ext cx="7344000" cy="540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525D-E4D2-46EF-84CD-ECBFDADA0F6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179280" y="404640"/>
            <a:ext cx="53294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Инфективн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Амебијаза/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Amoebia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6" name="Picture 6" descr="Mikroorganismen"/>
          <p:cNvPicPr/>
          <p:nvPr/>
        </p:nvPicPr>
        <p:blipFill>
          <a:blip r:embed="rId1"/>
          <a:stretch/>
        </p:blipFill>
        <p:spPr>
          <a:xfrm>
            <a:off x="5508720" y="1557360"/>
            <a:ext cx="34430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42E9-45B0-492C-B99C-D9D1AFE57DA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547640" y="620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Дефинициј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187280" y="1989000"/>
            <a:ext cx="7129800" cy="14925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Маларија је заразно обољење које изазивају четири врсте паразита из рода 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Plasmodium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, а преносе је убодом комарци из рода 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Anopheles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258920" y="4221000"/>
            <a:ext cx="7345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линички се болест карактерише маларичним нападима (периодични напади грознице), анемијом и спленомегалијом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D5B2-A9DF-4831-B45F-218CCEFA2AA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438920" y="77796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332000" y="2565360"/>
            <a:ext cx="7200720" cy="21513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Амебијаза означава инфестацију организма протозоом 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Entamoeba histolytica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 која се клинички испољава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широким спектром – од асимптоматске, преко амебног колитиса до инвазивних облика са стварањем апсцеса, пре свега у јетр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9515-1389-42D7-8F87-DBD73E9A075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1403280" y="765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971640" y="1989000"/>
            <a:ext cx="792144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нта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ба хистолyт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ц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 је примарно паразит дебелог цре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јављује се у </a:t>
            </a: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тр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обли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цистични обли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прелазна форма (мину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хистол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и облик (трофозоит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рофозит је патогени облик паразита (продукује протеолитичке ензиме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1229-5F5E-4E13-999C-F6B6F43AF30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4" name="Picture 4" descr="ehistolytica2"/>
          <p:cNvPicPr/>
          <p:nvPr/>
        </p:nvPicPr>
        <p:blipFill>
          <a:blip r:embed="rId1"/>
          <a:stretch/>
        </p:blipFill>
        <p:spPr>
          <a:xfrm>
            <a:off x="1258920" y="1268280"/>
            <a:ext cx="2390760" cy="2467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enta3"/>
          <p:cNvPicPr/>
          <p:nvPr/>
        </p:nvPicPr>
        <p:blipFill>
          <a:blip r:embed="rId2"/>
          <a:stretch/>
        </p:blipFill>
        <p:spPr>
          <a:xfrm>
            <a:off x="4572000" y="1268280"/>
            <a:ext cx="3170160" cy="2400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enta6"/>
          <p:cNvPicPr/>
          <p:nvPr/>
        </p:nvPicPr>
        <p:blipFill>
          <a:blip r:embed="rId3"/>
          <a:stretch/>
        </p:blipFill>
        <p:spPr>
          <a:xfrm>
            <a:off x="2843280" y="3933720"/>
            <a:ext cx="3527280" cy="22687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1181880" y="476280"/>
            <a:ext cx="44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Цистични облик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Entamoebe histolytic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07E8-C365-4B3C-AD8F-3B39FACF661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9" name="Picture 4" descr="E_histol_troph_drawA"/>
          <p:cNvPicPr/>
          <p:nvPr/>
        </p:nvPicPr>
        <p:blipFill>
          <a:blip r:embed="rId1"/>
          <a:srcRect l="8873" t="0" r="11118" b="0"/>
          <a:stretch/>
        </p:blipFill>
        <p:spPr>
          <a:xfrm>
            <a:off x="1042920" y="1700280"/>
            <a:ext cx="2708280" cy="3384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E_histol_troph_C"/>
          <p:cNvPicPr/>
          <p:nvPr/>
        </p:nvPicPr>
        <p:blipFill>
          <a:blip r:embed="rId2"/>
          <a:stretch/>
        </p:blipFill>
        <p:spPr>
          <a:xfrm>
            <a:off x="6732720" y="1700280"/>
            <a:ext cx="2079360" cy="3384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E_histol_troph_D"/>
          <p:cNvPicPr/>
          <p:nvPr/>
        </p:nvPicPr>
        <p:blipFill>
          <a:blip r:embed="rId3"/>
          <a:stretch/>
        </p:blipFill>
        <p:spPr>
          <a:xfrm>
            <a:off x="4067280" y="1700280"/>
            <a:ext cx="2376360" cy="338436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7"/>
          <p:cNvSpPr/>
          <p:nvPr/>
        </p:nvSpPr>
        <p:spPr>
          <a:xfrm>
            <a:off x="1404000" y="836640"/>
            <a:ext cx="35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Хистолитички облик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trofozoit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79A8-8D9C-4456-A3B6-9D098E999F9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090800" y="18900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971640" y="692280"/>
            <a:ext cx="7272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 свету има око 500 милиона особа инфестираних амеб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мебијаза је космополитско обољење, али је најзаступљенија у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ропским и суптропским крајеви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6" name="Picture 6" descr="amoebiasis1"/>
          <p:cNvPicPr/>
          <p:nvPr/>
        </p:nvPicPr>
        <p:blipFill>
          <a:blip r:embed="rId1"/>
          <a:stretch/>
        </p:blipFill>
        <p:spPr>
          <a:xfrm>
            <a:off x="971640" y="1844640"/>
            <a:ext cx="7345440" cy="36972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7"/>
          <p:cNvSpPr/>
          <p:nvPr/>
        </p:nvSpPr>
        <p:spPr>
          <a:xfrm>
            <a:off x="1042920" y="566100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бијаза је типична фекално-орална инфекциј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вор инфекције су болесник или амебоноша који столицом излучују цисте у спољну средину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овек се инфицира уношењем циста у органозму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љаве руке, вода, хран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9D30-39E6-4BAF-BDB8-9788C7E52C0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1187280" y="18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4788000" y="549360"/>
            <a:ext cx="4176720" cy="70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Цисте након ингестије, пролазе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желудац и танко црево, доспевају у дебело црево где под повољним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словима прелазе у трофозоит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Захваљујући својим протеолитичким ферментим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цистеин-протеазе)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могу да продру кроз цревну слуз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ицу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у субмукози изазивају некротично-инфламаторне промене, што 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рајњој инстанци резултира стварање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лцерациј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Лезије код амебијазе обично су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локализоване на цекуму и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сцедентном колону, али су често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захваћени и ректум и сигм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ђе, трофозоити могу да продру и у крвне судове (цревног зида) и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ртним крвотоком у јетру, где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формирају амебне 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цес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1" name="Picture 7" descr="image006"/>
          <p:cNvPicPr/>
          <p:nvPr/>
        </p:nvPicPr>
        <p:blipFill>
          <a:blip r:embed="rId1"/>
          <a:stretch/>
        </p:blipFill>
        <p:spPr>
          <a:xfrm>
            <a:off x="250920" y="765000"/>
            <a:ext cx="4467240" cy="55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37C1-086D-41AC-AA1A-7BA08D005A1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3" name="Picture 4" descr="entah1"/>
          <p:cNvPicPr/>
          <p:nvPr/>
        </p:nvPicPr>
        <p:blipFill>
          <a:blip r:embed="rId1"/>
          <a:stretch/>
        </p:blipFill>
        <p:spPr>
          <a:xfrm>
            <a:off x="1692360" y="1413000"/>
            <a:ext cx="626436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2E0D-E1B6-4B5F-81E4-E2EFEE53739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1332000" y="549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линичка сли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258920" y="2060640"/>
            <a:ext cx="705636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Инкубација код амебијазе је варијабилн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мебијаза клинички може да се манифестује у више обли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симптоматска амебија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кутна интестинална амебијаза (амебна дизентерија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хронична интестинална амебија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кстраинтестинална амебија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A27D-95E0-4B1F-AF36-83700683768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1187280" y="62064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АКУТНА ИНТЕСТИНАЛНА АМЕБИЈАЗА (АМЕБНА ДИЗЕНТЕРИЈА)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042920" y="2060640"/>
            <a:ext cx="7921800" cy="40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80000"/>
              </a:lnSpc>
              <a:spcBef>
                <a:spcPts val="18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тка у нашем поднебљ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80000"/>
              </a:lnSpc>
              <a:spcBef>
                <a:spcPts val="18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Симптом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 болови у трбуху, учестале слузаво-крваве столице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"ректални испљувак"), тенезни и лажни позиви на столиц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80000"/>
              </a:lnSpc>
              <a:spcBef>
                <a:spcPts val="18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За разлику од бациларне дизентерије, код амебне дизентерије нису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јаче испољени знаци фебрилности, дехридације и интоксикације организ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7263-6700-4E65-9A3E-887723833BF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332000" y="54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ом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п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ликациј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900000" y="1916280"/>
            <a:ext cx="813600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ерфорација са последичним перитонитисо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тено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мебоми (хроничне грануломатозне пролиферације у цревном зиду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рв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ње (најчешћ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но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23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кстраинтестинална амебијаза (хепатитич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, церебрална, перитонеална, ...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AF71-42A9-44FC-AD31-3F944B8E556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258920" y="188280"/>
            <a:ext cx="2160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7" descr="P_malariae_schizont4"/>
          <p:cNvPicPr/>
          <p:nvPr/>
        </p:nvPicPr>
        <p:blipFill>
          <a:blip r:embed="rId1"/>
          <a:srcRect l="0" t="14399" r="0" b="0"/>
          <a:stretch/>
        </p:blipFill>
        <p:spPr>
          <a:xfrm>
            <a:off x="5940360" y="1052640"/>
            <a:ext cx="2160720" cy="16542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8"/>
          <p:cNvSpPr/>
          <p:nvPr/>
        </p:nvSpPr>
        <p:spPr>
          <a:xfrm>
            <a:off x="5747400" y="2852640"/>
            <a:ext cx="26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malaria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kvart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10" descr="Plasmodium_vivax"/>
          <p:cNvPicPr/>
          <p:nvPr/>
        </p:nvPicPr>
        <p:blipFill>
          <a:blip r:embed="rId2"/>
          <a:stretch/>
        </p:blipFill>
        <p:spPr>
          <a:xfrm>
            <a:off x="1763640" y="1052640"/>
            <a:ext cx="2163960" cy="16970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1"/>
          <p:cNvSpPr/>
          <p:nvPr/>
        </p:nvSpPr>
        <p:spPr>
          <a:xfrm>
            <a:off x="1646640" y="2924280"/>
            <a:ext cx="25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vivax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terci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Picture 13" descr="ovale"/>
          <p:cNvPicPr/>
          <p:nvPr/>
        </p:nvPicPr>
        <p:blipFill>
          <a:blip r:embed="rId3"/>
          <a:srcRect l="0" t="3055" r="0" b="13823"/>
          <a:stretch/>
        </p:blipFill>
        <p:spPr>
          <a:xfrm>
            <a:off x="1835280" y="3860640"/>
            <a:ext cx="2158920" cy="17272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4"/>
          <p:cNvSpPr/>
          <p:nvPr/>
        </p:nvSpPr>
        <p:spPr>
          <a:xfrm>
            <a:off x="1795320" y="5661000"/>
            <a:ext cx="22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oval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ov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Picture 16" descr="winzeler02"/>
          <p:cNvPicPr/>
          <p:nvPr/>
        </p:nvPicPr>
        <p:blipFill>
          <a:blip r:embed="rId4"/>
          <a:srcRect l="18430" t="18250" r="7787" b="0"/>
          <a:stretch/>
        </p:blipFill>
        <p:spPr>
          <a:xfrm>
            <a:off x="5940360" y="3860640"/>
            <a:ext cx="2160720" cy="17290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7"/>
          <p:cNvSpPr/>
          <p:nvPr/>
        </p:nvSpPr>
        <p:spPr>
          <a:xfrm>
            <a:off x="5753160" y="5661000"/>
            <a:ext cx="26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falciparum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tropik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C57A-7E65-4D8C-83A3-34F13053699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1187280" y="54936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071720" y="1785960"/>
            <a:ext cx="77770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линичка слик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икробиолошка испитивањ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иректан микроскопски преглед препарата столиц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ултивисање столице на Leffler-Симићевој подлоз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еролошке реакције (RVK, RIH, ELISA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молекуларна метода (PC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ктоскопски преглед са биопсијом слузнице (ради хистолошког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регледа слузнице на трофозоите!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4C7C-4A69-4227-B60E-37916108ABA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1116000" y="476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Терап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1094040" y="126756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99"/>
                </a:solidFill>
                <a:latin typeface="Tahoma"/>
              </a:rPr>
              <a:t>Подела амебицида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116000" y="2205000"/>
          <a:ext cx="7632720" cy="3095640"/>
        </p:xfrm>
        <a:graphic>
          <a:graphicData uri="http://schemas.openxmlformats.org/drawingml/2006/table">
            <a:tbl>
              <a:tblPr/>
              <a:tblGrid>
                <a:gridCol w="3392640"/>
                <a:gridCol w="424008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Луменални амебици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oksanid furoat, klefamid, paromomicin, teklozan, etofamid, dijodohidroksikvinolin, nitazoksanid, te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iklin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кивни или системски амебици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etin, dihidroemetin, hlorokin, miltefosin, derivati arsena (karbazon i milib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7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шани амебици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nitroimidazoli (metronidazol, ornidazol, tinidazo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953E-34EA-4D8D-B0B9-D5C0B6DDE6A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971640" y="1844640"/>
            <a:ext cx="7848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симптоматски носиоци (луменални агенс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Јодокин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650 mg таб.) – доза: 3×650 mg/дан, 20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Паромомицин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250 mg таб.) – доза: 3×500 mg/дан, 10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кутни колити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Метронидаз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250 mg таб.) – доза: 3×750 mg/дан, 10 дана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+ луменални аген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мебни апсцес јет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Један од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Метронидаз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250 mg таб.) – доза: 3×750 mg/дан, 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Тинидаз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– доза: 2gr/дан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Орнидаз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– доза: 2gr/дан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5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+ луменални аген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2" name="Picture 5" descr="images1"/>
          <p:cNvPicPr/>
          <p:nvPr/>
        </p:nvPicPr>
        <p:blipFill>
          <a:blip r:embed="rId1"/>
          <a:stretch/>
        </p:blipFill>
        <p:spPr>
          <a:xfrm>
            <a:off x="6372360" y="189000"/>
            <a:ext cx="2457360" cy="18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D7C5-1798-4891-AF42-DC8D7558C92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900000" y="333360"/>
            <a:ext cx="73440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Инфективне 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Лај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шманијаза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Leishmania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5" name="Picture 5" descr="img026"/>
          <p:cNvPicPr/>
          <p:nvPr/>
        </p:nvPicPr>
        <p:blipFill>
          <a:blip r:embed="rId1"/>
          <a:srcRect l="16926" t="27953" r="9845" b="5906"/>
          <a:stretch/>
        </p:blipFill>
        <p:spPr>
          <a:xfrm>
            <a:off x="1979640" y="2565360"/>
            <a:ext cx="5689440" cy="38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29B2-B44F-40DB-98E7-48D5731B4EA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042920" y="2205000"/>
            <a:ext cx="7850160" cy="284148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ајшманијаза је хронично инфективно обољење које изазивају паразити из рода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eishmania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, а преносе инсекти из рода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Phlebotomus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линички се јавља у три облика: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висцерални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кожни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мукозални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обли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403280" y="83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82CD-7535-486F-B7F1-5AA9A77FE3B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476360" y="1125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042920" y="2276640"/>
            <a:ext cx="7993080" cy="35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ајшманије (род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Leishmania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фамилија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Trypanosomatidae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ласа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Mastigophora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ло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Protozoa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Висцералну лајшманијазу изазивају: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. donovani, L. infantum i L. shagasi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утану лајшманијазу у </a:t>
            </a:r>
            <a:r>
              <a:rPr b="0" lang="sr-CS" sz="1800" spc="-1" strike="noStrike" u="sng">
                <a:solidFill>
                  <a:srgbClr val="ffffff"/>
                </a:solidFill>
                <a:uFillTx/>
                <a:latin typeface="Tahoma"/>
              </a:rPr>
              <a:t>старом свету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изазивају: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. tropica, L. infantum, L. major, L. eatiopica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утану и мукозалну лајшманијазу у </a:t>
            </a:r>
            <a:r>
              <a:rPr b="0" lang="sr-CS" sz="1800" spc="-1" strike="noStrike" u="sng">
                <a:solidFill>
                  <a:srgbClr val="ffffff"/>
                </a:solidFill>
                <a:uFillTx/>
                <a:latin typeface="Tahoma"/>
              </a:rPr>
              <a:t>новом свету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изазивају: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. mexicana, L. braziliensis, L. peruvana, L. guyanensis, L. amazonensis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BFCA-77ED-4F0E-9D37-E26CD2CCBE0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1187280" y="333360"/>
            <a:ext cx="6140520" cy="9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ајшманије се јављају у два морфолошка обли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promastigot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(leptomonans)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mastigot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221840" y="1916280"/>
            <a:ext cx="16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Promastig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5" name="Picture 6" descr="img008"/>
          <p:cNvPicPr/>
          <p:nvPr/>
        </p:nvPicPr>
        <p:blipFill>
          <a:blip r:embed="rId1"/>
          <a:srcRect l="19300" t="32677" r="11014" b="7465"/>
          <a:stretch/>
        </p:blipFill>
        <p:spPr>
          <a:xfrm>
            <a:off x="539640" y="2847960"/>
            <a:ext cx="4032360" cy="2597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Ldon_trypomastigotes_Despo"/>
          <p:cNvPicPr/>
          <p:nvPr/>
        </p:nvPicPr>
        <p:blipFill>
          <a:blip r:embed="rId2"/>
          <a:stretch/>
        </p:blipFill>
        <p:spPr>
          <a:xfrm>
            <a:off x="5003640" y="2852640"/>
            <a:ext cx="3816360" cy="25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EF64-F668-4F32-9945-CEB4A01A5C8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1362600" y="7650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Amastig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9" name="Picture 5" descr="Ldono_Zaiman-amastigot"/>
          <p:cNvPicPr/>
          <p:nvPr/>
        </p:nvPicPr>
        <p:blipFill>
          <a:blip r:embed="rId1"/>
          <a:stretch/>
        </p:blipFill>
        <p:spPr>
          <a:xfrm>
            <a:off x="5076720" y="2133720"/>
            <a:ext cx="3832200" cy="25542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Leishmaniasis-tropica,-amastigot"/>
          <p:cNvPicPr/>
          <p:nvPr/>
        </p:nvPicPr>
        <p:blipFill>
          <a:blip r:embed="rId2"/>
          <a:stretch/>
        </p:blipFill>
        <p:spPr>
          <a:xfrm>
            <a:off x="900000" y="2133720"/>
            <a:ext cx="396108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9D8F-F909-494E-AAF8-10795CAE380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285920" y="4287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928800" y="1428840"/>
            <a:ext cx="7993080" cy="18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2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езервоар инфекције су човек и разне врсте домаћих и дивљих животињ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2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најчешће преносе убодом инсекти из род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Phlebotomus,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еђе се може пренети трансфузијом крви и сексуалним контакт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4" name="Picture 6" descr="Flies"/>
          <p:cNvPicPr/>
          <p:nvPr/>
        </p:nvPicPr>
        <p:blipFill>
          <a:blip r:embed="rId1"/>
          <a:stretch/>
        </p:blipFill>
        <p:spPr>
          <a:xfrm>
            <a:off x="1258920" y="3716280"/>
            <a:ext cx="3240000" cy="2492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leish0705f1"/>
          <p:cNvPicPr/>
          <p:nvPr/>
        </p:nvPicPr>
        <p:blipFill>
          <a:blip r:embed="rId2"/>
          <a:srcRect l="9029" t="9712" r="3994" b="16238"/>
          <a:stretch/>
        </p:blipFill>
        <p:spPr>
          <a:xfrm>
            <a:off x="5003640" y="3716280"/>
            <a:ext cx="32403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0DB0-4E2F-4865-BD62-C78F428E72B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971640" y="260280"/>
            <a:ext cx="8028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ајшманијаза се најчешче јавља у тропским земљама Азије, Африке и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Јужне Америке, у Европи углавном око Средоземног мо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Picture 5" descr="world_map-dobra"/>
          <p:cNvPicPr/>
          <p:nvPr/>
        </p:nvPicPr>
        <p:blipFill>
          <a:blip r:embed="rId1"/>
          <a:stretch/>
        </p:blipFill>
        <p:spPr>
          <a:xfrm>
            <a:off x="1763640" y="148428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1361-296C-4531-81D7-39A8F09C68D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Picture 4" descr="agambiae"/>
          <p:cNvPicPr/>
          <p:nvPr/>
        </p:nvPicPr>
        <p:blipFill>
          <a:blip r:embed="rId1"/>
          <a:stretch/>
        </p:blipFill>
        <p:spPr>
          <a:xfrm>
            <a:off x="1403280" y="1413000"/>
            <a:ext cx="3024360" cy="19731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malaria3"/>
          <p:cNvPicPr/>
          <p:nvPr/>
        </p:nvPicPr>
        <p:blipFill>
          <a:blip r:embed="rId2"/>
          <a:stretch/>
        </p:blipFill>
        <p:spPr>
          <a:xfrm>
            <a:off x="5508720" y="3933720"/>
            <a:ext cx="3240000" cy="2185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thumb-malaria_special"/>
          <p:cNvPicPr/>
          <p:nvPr/>
        </p:nvPicPr>
        <p:blipFill>
          <a:blip r:embed="rId3"/>
          <a:srcRect l="6557" t="0" r="9638" b="0"/>
          <a:stretch/>
        </p:blipFill>
        <p:spPr>
          <a:xfrm>
            <a:off x="1187280" y="3860640"/>
            <a:ext cx="367200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mosquito2"/>
          <p:cNvPicPr/>
          <p:nvPr/>
        </p:nvPicPr>
        <p:blipFill>
          <a:blip r:embed="rId4"/>
          <a:stretch/>
        </p:blipFill>
        <p:spPr>
          <a:xfrm>
            <a:off x="5651640" y="1341360"/>
            <a:ext cx="2736720" cy="20210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0"/>
          <p:cNvSpPr/>
          <p:nvPr/>
        </p:nvSpPr>
        <p:spPr>
          <a:xfrm>
            <a:off x="1638720" y="54936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Anophe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0125-3F6C-40E9-B39E-6A3566B5B75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1042920" y="54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042920" y="1125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hlebotomine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promastigot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RES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amastigot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RES (лимфне жлезде, слезина, јетра, костна срж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6" descr="leish0705f2"/>
          <p:cNvPicPr/>
          <p:nvPr/>
        </p:nvPicPr>
        <p:blipFill>
          <a:blip r:embed="rId1"/>
          <a:srcRect l="4641" t="12567" r="4646" b="11332"/>
          <a:stretch/>
        </p:blipFill>
        <p:spPr>
          <a:xfrm>
            <a:off x="1547640" y="1916280"/>
            <a:ext cx="676944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6BC2-F96B-4C0B-8470-3AAF368AA23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1162440" y="62064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1692360" y="2205000"/>
            <a:ext cx="57592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олест се испољава у три клиничка облика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висцерални,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кожн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мукозал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F644-4ABF-4E21-B7A8-8F4730CB551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1116000" y="98100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Висцерална лајшманијаза (Kala Azar)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116000" y="2133720"/>
            <a:ext cx="7777080" cy="34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кубација варира од 3 дана до 8 месец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очиње постепено: повишена температура, знојење,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губитак апетита, малаксалост, мршављењ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Физикални налаз: бледило коже и слузница, лимафаденопатија, спленомегалија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епатомегалија, интерстицијска пнеумонија, хеморагијски синдр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елечена висцерална лајшманијаза се завршава смрћу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A8D6-6D7B-4F13-BBD9-BB10D66DC8A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img026"/>
          <p:cNvPicPr/>
          <p:nvPr/>
        </p:nvPicPr>
        <p:blipFill>
          <a:blip r:embed="rId1"/>
          <a:srcRect l="16926" t="27953" r="11014" b="5906"/>
          <a:stretch/>
        </p:blipFill>
        <p:spPr>
          <a:xfrm>
            <a:off x="539640" y="1773360"/>
            <a:ext cx="5688000" cy="3916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KalaAzar_Zaiman"/>
          <p:cNvPicPr/>
          <p:nvPr/>
        </p:nvPicPr>
        <p:blipFill>
          <a:blip r:embed="rId2"/>
          <a:srcRect l="17670" t="0" r="22157" b="0"/>
          <a:stretch/>
        </p:blipFill>
        <p:spPr>
          <a:xfrm>
            <a:off x="6443640" y="333360"/>
            <a:ext cx="2449440" cy="61088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6"/>
          <p:cNvSpPr/>
          <p:nvPr/>
        </p:nvSpPr>
        <p:spPr>
          <a:xfrm>
            <a:off x="1470240" y="83664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Kala Az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6857-0483-486A-8857-CE21ED170AE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187280" y="90792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Кожна лајшманијаза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042920" y="1773360"/>
            <a:ext cx="7848720" cy="36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200000"/>
              </a:lnSpc>
              <a:spcBef>
                <a:spcPts val="1576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нкубација варира од 2 недеље до неколико месец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ромене се јављају на откривеним деловима тела: на месту убода се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најпре јавља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макула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ја брзо прелази у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папулу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 ова у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поткожни чворић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ји може да се одржава месецима и да спонтано ишчезне или егзулцерише 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безболна улцерација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200000"/>
              </a:lnSpc>
              <a:spcBef>
                <a:spcPts val="1576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жне промене прати регионални лимафаденити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06AC-3E94-4BC3-849A-3639F651D50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Picture 4" descr="1455_f1"/>
          <p:cNvPicPr/>
          <p:nvPr/>
        </p:nvPicPr>
        <p:blipFill>
          <a:blip r:embed="rId1"/>
          <a:stretch/>
        </p:blipFill>
        <p:spPr>
          <a:xfrm>
            <a:off x="1332000" y="1004760"/>
            <a:ext cx="3311280" cy="25434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leishmaniasis"/>
          <p:cNvPicPr/>
          <p:nvPr/>
        </p:nvPicPr>
        <p:blipFill>
          <a:blip r:embed="rId2"/>
          <a:stretch/>
        </p:blipFill>
        <p:spPr>
          <a:xfrm>
            <a:off x="5076720" y="1039680"/>
            <a:ext cx="2735280" cy="2463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hand"/>
          <p:cNvPicPr/>
          <p:nvPr/>
        </p:nvPicPr>
        <p:blipFill>
          <a:blip r:embed="rId3"/>
          <a:stretch/>
        </p:blipFill>
        <p:spPr>
          <a:xfrm>
            <a:off x="1692360" y="3860640"/>
            <a:ext cx="2592360" cy="2349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img041"/>
          <p:cNvPicPr/>
          <p:nvPr/>
        </p:nvPicPr>
        <p:blipFill>
          <a:blip r:embed="rId4"/>
          <a:srcRect l="15756" t="26394" r="7477" b="5906"/>
          <a:stretch/>
        </p:blipFill>
        <p:spPr>
          <a:xfrm>
            <a:off x="4788000" y="3860640"/>
            <a:ext cx="3600360" cy="23814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8"/>
          <p:cNvSpPr/>
          <p:nvPr/>
        </p:nvSpPr>
        <p:spPr>
          <a:xfrm>
            <a:off x="1502280" y="47628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Кожна лајшманиј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DB5F-9528-4C42-A6CD-0E130FAF8B4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1411200" y="476280"/>
            <a:ext cx="35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Дифузна кутана лајшманиј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5" descr="difuzna kutana"/>
          <p:cNvPicPr/>
          <p:nvPr/>
        </p:nvPicPr>
        <p:blipFill>
          <a:blip r:embed="rId1"/>
          <a:srcRect l="18101" t="26165" r="13388" b="9031"/>
          <a:stretch/>
        </p:blipFill>
        <p:spPr>
          <a:xfrm>
            <a:off x="1403280" y="1268280"/>
            <a:ext cx="6553440" cy="466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F0B6-E5C2-42FC-B024-02F202D8143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1258920" y="33336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Мукозална лајшманија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907920"/>
            <a:ext cx="799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2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арактерише се опсежним, деструктивним променама на слузници носа, уста, фаринкса или ларинкса (локални деформитети)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8" name="Picture 6" descr="lei20"/>
          <p:cNvPicPr/>
          <p:nvPr/>
        </p:nvPicPr>
        <p:blipFill>
          <a:blip r:embed="rId1"/>
          <a:stretch/>
        </p:blipFill>
        <p:spPr>
          <a:xfrm>
            <a:off x="4427640" y="1916280"/>
            <a:ext cx="3240000" cy="21873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abb05_s"/>
          <p:cNvPicPr/>
          <p:nvPr/>
        </p:nvPicPr>
        <p:blipFill>
          <a:blip r:embed="rId2"/>
          <a:stretch/>
        </p:blipFill>
        <p:spPr>
          <a:xfrm>
            <a:off x="1187280" y="2276640"/>
            <a:ext cx="2651400" cy="4032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img043"/>
          <p:cNvPicPr/>
          <p:nvPr/>
        </p:nvPicPr>
        <p:blipFill>
          <a:blip r:embed="rId3"/>
          <a:srcRect l="16926" t="27953" r="6301" b="5906"/>
          <a:stretch/>
        </p:blipFill>
        <p:spPr>
          <a:xfrm>
            <a:off x="4427640" y="4365720"/>
            <a:ext cx="3240000" cy="20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2CA9-49EF-4DB9-BC5B-00D91D136A7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1688040" y="76392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1692360" y="2133720"/>
            <a:ext cx="475128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ијагноза се поставља на основу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2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Клиничке слик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2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Епидемиолошких података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2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Лабораторијских анали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6CA3-9EC5-41DC-82A8-92E5893E9AA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1434600" y="534240"/>
            <a:ext cx="40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Лабораторијска дијагнос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1343520" y="14122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Хематолошке анализ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1213920" y="3789720"/>
            <a:ext cx="4446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ипоалбуминемиј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ипергамаглобулинемиј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овишена активност трансаминаз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1228320" y="2059920"/>
            <a:ext cx="70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анцитопенија (анемија, леукопенија, тромбоцитопенија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1332360" y="328392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Биохемијске анализ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C612-3280-4D14-8C5B-32B72F30898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476360" y="98100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Животни циклус плазмодију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684360" y="2133720"/>
            <a:ext cx="475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I  Асексуални циклус ("шизогонија"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1640" indent="-81000">
              <a:lnSpc>
                <a:spcPct val="2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рееритроцитна ф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1640" indent="-81000">
              <a:lnSpc>
                <a:spcPct val="2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ритроцитна ф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1640" indent="-81000">
              <a:lnSpc>
                <a:spcPct val="2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гзоеритроцитна ф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II Сексуални циклус ("спорогонија"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7" descr="cyclustext"/>
          <p:cNvPicPr/>
          <p:nvPr/>
        </p:nvPicPr>
        <p:blipFill>
          <a:blip r:embed="rId1"/>
          <a:stretch/>
        </p:blipFill>
        <p:spPr>
          <a:xfrm>
            <a:off x="5508720" y="1557360"/>
            <a:ext cx="347184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C660-0EAD-4C04-AB19-D93C793B22F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1332000" y="1197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Етиолошка 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1187280" y="2060640"/>
            <a:ext cx="7488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дентификација узрочника у ткиву, најчешће костној сржи (микроскопски преглед пунктат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золација узрочника из крви, костне сржи и других ткива (култивисање на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NNN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подлогам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оказивање специфичних антитела на лајшманиј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(IF, ELISA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оказивање паразитн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DNK (PCR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D521-7FB5-4B8B-91A6-71CC7ABB18B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4" name="Picture 4" descr="amastigot - koza"/>
          <p:cNvPicPr/>
          <p:nvPr/>
        </p:nvPicPr>
        <p:blipFill>
          <a:blip r:embed="rId1"/>
          <a:srcRect l="16926" t="29520" r="19300" b="5906"/>
          <a:stretch/>
        </p:blipFill>
        <p:spPr>
          <a:xfrm>
            <a:off x="1763640" y="1700280"/>
            <a:ext cx="5400720" cy="41022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5"/>
          <p:cNvSpPr/>
          <p:nvPr/>
        </p:nvSpPr>
        <p:spPr>
          <a:xfrm>
            <a:off x="1589760" y="90792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Амастигот у биоптату кож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4997-0EA5-47BA-AE20-AC935E76F60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1695240" y="503640"/>
            <a:ext cx="16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1163880" y="141228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Антипаразитарна терапија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332000" y="1916280"/>
            <a:ext cx="3095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нтимонски препара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роматични диамидин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мфотерицин Б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1000440" y="3644280"/>
            <a:ext cx="48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Симптоматско-супституциона терапија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1258920" y="4221000"/>
            <a:ext cx="678816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ечење анемије (трансфузије крви, гвожђе, витамин Б12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ечење хипопротеинемије (20% албумини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висококалоријска исхран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2" name="Picture 9" descr="ico_pills"/>
          <p:cNvPicPr/>
          <p:nvPr/>
        </p:nvPicPr>
        <p:blipFill>
          <a:blip r:embed="rId1"/>
          <a:stretch/>
        </p:blipFill>
        <p:spPr>
          <a:xfrm>
            <a:off x="5867280" y="620640"/>
            <a:ext cx="241776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2AFA-2A52-45C7-9AEB-FC76C4DB716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861840" y="1844640"/>
            <a:ext cx="828216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Инфективне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ИНФЕКЦИЈЕ И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ЗАЗВАНЕ РИКЕЦИЈАМА (RIKECIOZ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48BC-0FF6-4D20-B7D6-B83E9C7F828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1142280" y="126756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ПЕГАВИ ТИФУС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(TYPHUS EXANTHEMATICU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1187280" y="2133720"/>
            <a:ext cx="763272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егави тифус је акутна, неконтагиозна, инфективна болест која се клинички карактерише општим симптомима инфекције, симптомима енцефалитис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(тифозним стањем) и макулозном осп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зрочник болести је </a:t>
            </a:r>
            <a:r>
              <a:rPr b="0" i="1" lang="sr-Latn-CS" sz="1800" spc="-1" strike="noStrike">
                <a:solidFill>
                  <a:srgbClr val="ffff99"/>
                </a:solidFill>
                <a:latin typeface="Tahoma"/>
              </a:rPr>
              <a:t>Rickettsia prowazeki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ја се у сасушеном измету ваши може одржати више месец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8338-D0C6-4A6F-8E87-9F618F34E77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Text Box 2"/>
          <p:cNvSpPr/>
          <p:nvPr/>
        </p:nvSpPr>
        <p:spPr>
          <a:xfrm>
            <a:off x="1042920" y="765000"/>
            <a:ext cx="79218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звор инфекције је болесник који болује од пегавца или Брил-Цинсерове болести (заразан је последња 2 до 3 дана инкубације и све време трајања фебрилности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 оболелог на здравог човека болест преноси бала вашк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(Pediculus humanis corporis),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која се зарази сишући крв болес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0" name="Picture 3" descr="Piojo_de_la_ropa_Pediculus_humanos_corporis"/>
          <p:cNvPicPr/>
          <p:nvPr/>
        </p:nvPicPr>
        <p:blipFill>
          <a:blip r:embed="rId1"/>
          <a:stretch/>
        </p:blipFill>
        <p:spPr>
          <a:xfrm>
            <a:off x="1116000" y="3357720"/>
            <a:ext cx="3527280" cy="3201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foto_025"/>
          <p:cNvPicPr/>
          <p:nvPr/>
        </p:nvPicPr>
        <p:blipFill>
          <a:blip r:embed="rId2"/>
          <a:stretch/>
        </p:blipFill>
        <p:spPr>
          <a:xfrm>
            <a:off x="5508720" y="3357720"/>
            <a:ext cx="2131920" cy="30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5B2D-58B8-4994-B5C4-93304C1BF38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1258920" y="1773360"/>
            <a:ext cx="7272360" cy="33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80000"/>
              </a:lnSpc>
              <a:spcAft>
                <a:spcPts val="1125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рикеција се настањује и размножава у епителним ћелијама црева, одакле столицом доспева у спољну средин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80000"/>
              </a:lnSpc>
              <a:spcAft>
                <a:spcPts val="1125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човек се инфицира утрљавањем измета у кожу (чешањем), ређе утрљавањем у коњунктив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80000"/>
              </a:lnSpc>
              <a:spcAft>
                <a:spcPts val="1125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олест се јавља епидемично, у животним ситуацијама лоших санитарних услова када је вашљив велики број људ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3333-21DC-45D3-AF8B-423961E2C8A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Text Box 2"/>
          <p:cNvSpPr/>
          <p:nvPr/>
        </p:nvSpPr>
        <p:spPr>
          <a:xfrm>
            <a:off x="1042920" y="1268280"/>
            <a:ext cx="792180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901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икеције посебан афинитет показују к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ендотелним ћелијам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малих крвних судова (артериоле, капилари, венуле), где се размножавају, разарају ендотелне ћелије и доспевају у крвоток (рикецијемиј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901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оком рикецијемије настаје дисеминација узрочника до различитих ткива и органа у којима изазивају васкулитис; промене су најизраженије у кожи, мозгу, попречно-пругастој мускулатури, тестисима, срцу и бубрези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901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ко инфицираних крвних судова ствара се запаљенски инфилтрат (гранулом) састваљен од лимфоцита и моноцита (артериолитис грануломатоса, Френкелови чворићи); ови грануломи сужавају лумен малих крвних судова, што доводи до успоравања крвотока и појаве тромбо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5653-2A92-4C51-999F-A8B47E0994B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258920" y="1125360"/>
            <a:ext cx="720072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кубација износи 1 до 2 недеље (просечно 12 да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ротиче кроз три стадијум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вазивни стадију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гзантематични (тифозни стадијум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еконвалесцентни стадиј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11C3-7F07-4E82-877B-84B6A175405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2"/>
          <p:cNvSpPr/>
          <p:nvPr/>
        </p:nvSpPr>
        <p:spPr>
          <a:xfrm>
            <a:off x="1116000" y="1268280"/>
            <a:ext cx="777708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. Инвазивни стадију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очиње нагло са оптим симптомима инфекције: високом температуром, дрхтавицом, главобољом, мијалгијама и артралгија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физикални налаз: лице је црвено и подбуло (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caput rubrum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), коњунктивална ињекција, језик је сув, обложен прљавосивим наслагама; на плућима бронхитични шушњев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вај стадијум траје 5 до 7 д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C0AC-7272-41B8-8880-68ADB377258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7" descr="malariacycleBig"/>
          <p:cNvPicPr/>
          <p:nvPr/>
        </p:nvPicPr>
        <p:blipFill>
          <a:blip r:embed="rId1"/>
          <a:stretch/>
        </p:blipFill>
        <p:spPr>
          <a:xfrm>
            <a:off x="826920" y="836640"/>
            <a:ext cx="7921800" cy="52848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8"/>
          <p:cNvSpPr/>
          <p:nvPr/>
        </p:nvSpPr>
        <p:spPr>
          <a:xfrm>
            <a:off x="918360" y="26028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Животни циклус плазмодију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D40C-C18C-447C-BFC2-596607AD182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 Box 2"/>
          <p:cNvSpPr/>
          <p:nvPr/>
        </p:nvSpPr>
        <p:spPr>
          <a:xfrm>
            <a:off x="1116000" y="1268280"/>
            <a:ext cx="7850160" cy="54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б. Егзантематични стадијум (тифозни стадијум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арактерише се појавом оспе, која избија у једном маху и која је најизраженија на флексорним странама руку и бочним деловима тела (оспа је макулозна, некада делимично петехијална, тј. никада све макуле не прелазе у петехије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оком овог стадијума јављају се симптоми од стране CNS-а: пацијент је узнемирен, дезоријентисан, често агресиван са халуцинацијама или је миран, апатичан, у прострацији и ступору (тифозно стање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могу бити присутни и знаци пнеумоније, миокардитиса, нефритис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пленомегалија је најизраженија почетком овог стадијума, касније нестај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вај стадијум траје 7 до 8 д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9505-0B5C-4DA8-9E2B-5731E944C41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187280" y="1197000"/>
            <a:ext cx="763272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Реконвалесцентни стадију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 случају оздрављења опоравак је брз и без последиц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омплика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стају услед тромбозе крвних судова (у било ком органу и на акрима у смислу гангрене) и бактеријске суперинфекциј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A332-E702-4EBA-BA37-FD301664707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1116000" y="1197000"/>
            <a:ext cx="6480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линичка сли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пидемиолошки подаци (вашљивост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абораторијске анализе (умерена леукоцитоз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5A68-A96F-4923-B39E-78D9C6C7D4B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1042920" y="1197000"/>
            <a:ext cx="763272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2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Серолошке анализ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Weil-Felix-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ва реакција аглутинације (proteus OX 19) – реакција је позитивна крајем прве и почетком друге недеље болести: дијагностички је значајан титар већи од 1:160, али је важнији четвороструки пораст титра антитела у два узорка серу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реакција везивања комплемент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RVK) са специфичним рикецијским антигеном, касније постаје позитивна, око 10 дана болести, а за дијагностичку динамику титра треба чекати бар три недељ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индиректна имунофлуоресценциј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IIF) и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имуноензимски тест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ELISA) за откривање антитела на рикецију у IgM и IgG клас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794D-F9EC-4183-9FAD-9733C81D512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58920" y="1052640"/>
            <a:ext cx="7489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етрациклини (доксициклин 2x100mg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лорамфеникол (30mg/kg у 4 једнаке дозе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имптоматска терапиј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рофилак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рба против вашљивости (депедикулациј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остоји вакцина од атенуиране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R. prowazeki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519B-47A6-460D-9B36-5A7C0E2981B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1455120" y="892800"/>
            <a:ext cx="36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BRIL – ZINSSEROVA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sr-CS" sz="2000" spc="-1" strike="noStrike">
                <a:solidFill>
                  <a:srgbClr val="ffff00"/>
                </a:solidFill>
                <a:latin typeface="Tahoma"/>
              </a:rPr>
              <a:t>БОЛЕ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1258920" y="2205000"/>
            <a:ext cx="7489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рил-Цинсерова болест је касни рецидив пегавца, а јавља се више година након прележане боле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83BF-71B6-4780-BCDD-BACABFDF983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1187280" y="1052640"/>
            <a:ext cx="75614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тиологија и епидем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8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се јавља спорадично у свим крајевима света у којима је накада било пегавца или га још увек и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8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ник с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Brill-Zinsser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ово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болешћу може бити извор инфекције пегавца уколико истовремено постоји вашљиво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E41D-EB92-4B0A-9A60-B3FF054B218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Text Box 2"/>
          <p:cNvSpPr/>
          <p:nvPr/>
        </p:nvSpPr>
        <p:spPr>
          <a:xfrm>
            <a:off x="1116000" y="1197000"/>
            <a:ext cx="763272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кон прележаног пегавца, рикеције се задржавају у организму у латентном стању, а могу се активирати уколико ослабе имунске снаге организ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ротиче као лакши облик пегавца (траје 7-11 да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E678-2901-4927-AE8E-11D68A66E11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1187280" y="1197000"/>
            <a:ext cx="756144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ијагност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RVK (рано постаје позитивна - око 5 да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Brill-Zinsser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ов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болест се лечи као и пегавац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F4A2-ECB7-4B1D-B8B7-B36567CFF44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3132000" y="278136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Comic Sans MS"/>
              </a:rPr>
              <a:t>Хвала на па</a:t>
            </a:r>
            <a:r>
              <a:rPr b="0" i="1" lang="sr-Latn-CS" sz="3600" spc="-1" strike="noStrike">
                <a:solidFill>
                  <a:srgbClr val="ffff00"/>
                </a:solidFill>
                <a:latin typeface="Comic Sans MS"/>
              </a:rPr>
              <a:t>жњ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66D3-9029-40C4-B277-6B80564EF1D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4" descr="F0000-012-001"/>
          <p:cNvPicPr/>
          <p:nvPr/>
        </p:nvPicPr>
        <p:blipFill>
          <a:blip r:embed="rId1"/>
          <a:srcRect l="0" t="0" r="0" b="6943"/>
          <a:stretch/>
        </p:blipFill>
        <p:spPr>
          <a:xfrm>
            <a:off x="2700360" y="189000"/>
            <a:ext cx="6264360" cy="61545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653760" y="620640"/>
            <a:ext cx="20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Животни циклус </a:t>
            </a:r>
            <a:br>
              <a:rPr sz="1800"/>
            </a:b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плазмодију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D93A-8EB4-415C-BF21-02EC8712553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Picture 5" descr="oocysts"/>
          <p:cNvPicPr/>
          <p:nvPr/>
        </p:nvPicPr>
        <p:blipFill>
          <a:blip r:embed="rId1"/>
          <a:srcRect l="0" t="6140" r="0" b="39916"/>
          <a:stretch/>
        </p:blipFill>
        <p:spPr>
          <a:xfrm>
            <a:off x="2627280" y="3591000"/>
            <a:ext cx="4176720" cy="2663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oocysts2"/>
          <p:cNvPicPr/>
          <p:nvPr/>
        </p:nvPicPr>
        <p:blipFill>
          <a:blip r:embed="rId2"/>
          <a:srcRect l="0" t="0" r="0" b="36183"/>
          <a:stretch/>
        </p:blipFill>
        <p:spPr>
          <a:xfrm>
            <a:off x="3348000" y="1052640"/>
            <a:ext cx="5400720" cy="22208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oocysts3"/>
          <p:cNvPicPr/>
          <p:nvPr/>
        </p:nvPicPr>
        <p:blipFill>
          <a:blip r:embed="rId3"/>
          <a:srcRect l="0" t="0" r="0" b="21856"/>
          <a:stretch/>
        </p:blipFill>
        <p:spPr>
          <a:xfrm>
            <a:off x="684360" y="1052640"/>
            <a:ext cx="2303280" cy="2220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8"/>
          <p:cNvSpPr/>
          <p:nvPr/>
        </p:nvSpPr>
        <p:spPr>
          <a:xfrm>
            <a:off x="1009440" y="40464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Oocis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3:49Z</dcterms:created>
  <dc:creator>Dragan Adamovic</dc:creator>
  <dc:description/>
  <dc:language>en-US</dc:language>
  <cp:lastModifiedBy>Ivana Rakovic</cp:lastModifiedBy>
  <dcterms:modified xsi:type="dcterms:W3CDTF">2024-09-05T22:24:14Z</dcterms:modified>
  <cp:revision>119</cp:revision>
  <dc:subject/>
  <dc:title>Slide 1</dc:title>
</cp:coreProperties>
</file>